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1B913-1ED7-4B11-B3E0-526398829E1D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9B5DD-1053-4D5F-9922-E53C3E4AD42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86094B-DC25-46E2-B10F-A3D0D44C1586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C5313-9F10-44ED-8AA6-4A6D80F50CD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D2662-4E78-473D-8E87-7F65C395992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AD1F11-70C4-4ABE-9D5B-72DC5B16D3E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EE385-F251-4418-8D20-941CFCA9B92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539269-1837-4B7A-A8FF-CFB1E352AF5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092424-743E-4046-BB39-CFCCB26975B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9E2629-17CA-43AD-9D93-9AA0E879EC8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6BFC2-1C9C-482D-9268-279BB0BEF3F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21A56E-27C5-4891-B450-30B6CB611B3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98A9E-014A-472C-88BF-407705FCF3C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31F513-F707-4688-962E-4501DA8A023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C214A1-B7F5-4187-87F7-D10F142712E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240E2-F4F9-45E4-8B87-373BEDD7B48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FC2A7-A553-49C0-814D-9C2A9ED9AFF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46EEA-87D7-4B6C-9494-212F447F88D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705A3-AAEF-4AD3-BBA2-CA66C4F490B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88D47C-D687-4A8E-ADC0-39557E25622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Imagem original 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http://www.flickr.com/photos/mlostracco/435561154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05D09B-7422-47E3-B484-665844F2681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2A3730-9EF0-4A54-9764-A6C3F4A1DCD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21C04-E8C9-413E-8FF7-8FC633F605A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FEFD40-7650-496C-8882-08EF1B9378D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CE6C6B-1CFE-4B70-8B9A-305ED58D6E1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15C6B5-044C-4D44-89A0-525D28306B5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-1496880"/>
            <a:ext cx="5029200" cy="169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5-LayoutBaseadoEmTabelas.html - Layout baseado em tabelas, o que vimos até agora,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  <a:ea typeface="WenQuanYi Micro Hei"/>
              </a:rPr>
              <a:t>não é a solução idea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6-LayoutBaseadoEmParagrafos.html - Layout baseado em parágrafos (&lt;p&gt;) e quebras de linha (&lt;br&gt;)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seados em floa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listas de definição (&lt;dl&gt;, &lt;dd&gt;, &lt;dt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camadas (&lt;div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ódigo HTML bastante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limpo e acessíve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Funciona bem mesmo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sem CS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9900ff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Fácil leitur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pelo usuário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Prevê dispositivos com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 baixa resoluçã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de largura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SS Aplicado muda pouco em relação à versão anterior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Não é uma boa abordagem bom para formatações complexas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Sugere-se a colocação de separador entre os iten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fieldset p {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margin:3px 0 2px 0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order:1px solid #aa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padding:5px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ckground:#ccc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}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12"/>
              </a:spcBef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55FFF-E1B2-4C38-83AA-DE1EF16CCE5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Desafio!: Renderização padrão em navegadores diferentes é sempre diferente. Botões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NUNC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vão ficar exatamente igua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Fonte: Página 173 do Beggining C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E77C9-F501-4FFC-8164-F1652B7DDAA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2A485-4BFE-4CA5-9623-E55950A4EDD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2FD248-3BDA-4B28-98DC-71242C61D3D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30421-E38A-4A03-9FFF-252DF9AB1B0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87883-560A-4004-9F78-D9A29D313BD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25311-37EE-4547-BC1F-D9C91B71589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9F0EE7-FE96-4A6A-AB24-9DA6A9C7CB4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CF1AD4-701A-4A4C-BB65-52BC13E0DE3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08FC72-0775-4485-B66D-441E847658C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C2596-538D-44BA-BD08-757F8A1F5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5B684-FDAA-490E-8216-8CDE67CA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73692-535F-4278-A1E4-15B775DCC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D2E99-0536-46F8-9AE1-995BB5DB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EB38C-85CB-418F-8A20-7623B7A0C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054ED-E9AE-4234-81FD-746A8A71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216C6-7188-481A-BA50-B892733A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988B9-1617-47B9-A444-B6EBDC38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63391-C9BD-43D4-A432-EA068684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1F696-E706-4B24-8EE6-46FF59006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4B4BF-4C12-4630-A26C-0D8A7B40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665D3-4EA8-4A8F-83B5-C1E56BF3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59BEA3-5ED5-40C0-942D-8D6918D3ECAC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1/03/layout-de-elementos-em-css/" TargetMode="External"/><Relationship Id="rId2" Type="http://schemas.openxmlformats.org/officeDocument/2006/relationships/hyperlink" Target="http://www.brunocampagnolo.com/2009li/2009/10/27/posicionamento-de-elementos-em-css/" TargetMode="External"/><Relationship Id="rId3" Type="http://schemas.openxmlformats.org/officeDocument/2006/relationships/hyperlink" Target="http://www.brunocampagnolo.com/2009li/2009/10/27/posicionamento-de-elementos-em-css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ucpr.br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abcorp.com.au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htmldog.com/articles/elasticdesign/demo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csseasy.com/" TargetMode="External"/><Relationship Id="rId3" Type="http://schemas.openxmlformats.org/officeDocument/2006/relationships/hyperlink" Target="http://layouts.ironmyers.com/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aujor.com/tutorial/layout-css-passo-a-passo.php" TargetMode="External"/><Relationship Id="rId2" Type="http://schemas.openxmlformats.org/officeDocument/2006/relationships/hyperlink" Target="http://www.tableless.com.br/propriedade-position-do-css" TargetMode="External"/><Relationship Id="rId3" Type="http://schemas.openxmlformats.org/officeDocument/2006/relationships/hyperlink" Target="http://www.pt-br.html.net/tutorials/css/lesson13.asp" TargetMode="External"/><Relationship Id="rId4" Type="http://schemas.openxmlformats.org/officeDocument/2006/relationships/hyperlink" Target="http://www.pt-br.html.net/tutorials/css/lesson14.as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ubmarino.com.br/books_productdetails.asp?Query=ProductPage&amp;ProdTypeId=1&amp;ProdId=21323898&amp;ST=SR" TargetMode="External"/><Relationship Id="rId2" Type="http://schemas.openxmlformats.org/officeDocument/2006/relationships/hyperlink" Target="http://www.lukew.com/ff/entry.asp?680" TargetMode="External"/><Relationship Id="rId3" Type="http://schemas.openxmlformats.org/officeDocument/2006/relationships/hyperlink" Target="http://www.lukew.com/ff" TargetMode="External"/><Relationship Id="rId4" Type="http://schemas.openxmlformats.org/officeDocument/2006/relationships/hyperlink" Target="http://www.maujor.com/tutorial/formac-a.php" TargetMode="External"/><Relationship Id="rId5" Type="http://schemas.openxmlformats.org/officeDocument/2006/relationships/hyperlink" Target="http://www.maujor.com/tutorial/cssforms.php" TargetMode="External"/><Relationship Id="rId6" Type="http://schemas.openxmlformats.org/officeDocument/2006/relationships/hyperlink" Target="http://www.maujor.com/tutorial/formContato.php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cordapraweb.com/formularios-totalmente-semanticos-com-html-e-css/" TargetMode="External"/><Relationship Id="rId2" Type="http://schemas.openxmlformats.org/officeDocument/2006/relationships/hyperlink" Target="http://woork.blogspot.com/2008/06/clean-and-pure-css-form-design.html" TargetMode="External"/><Relationship Id="rId3" Type="http://schemas.openxmlformats.org/officeDocument/2006/relationships/hyperlink" Target="http://www.alistapart.com/articles/sensibleforms" TargetMode="External"/><Relationship Id="rId4" Type="http://schemas.openxmlformats.org/officeDocument/2006/relationships/hyperlink" Target="http://www.lukew.com/ff/entry.asp?504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llstyled.com/css-nopreload-rollover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boratório de Informática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yout em C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F2AFF0-97E5-46CE-91D8-9DC860974230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tipo de posicionamento de um ele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largura de um elemento, obrigatório nos elementos com floa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F1FD3-8FEA-465F-9DF7-37F557B2825C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s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esta a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www.brunocampagnolo.com/2009li/2009/11/03/layout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a aula passad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_x000b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Alguns tipo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íquido ou fluid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Elástic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 variável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terminad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ixel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dimensiona a janela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ermanec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trole exat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ão prevê resolução do usuári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200" y="6143760"/>
            <a:ext cx="8929800" cy="178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pucpr.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85920" y="1454040"/>
            <a:ext cx="67705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íquido ou fl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manho das imagen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ve te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rgura máxim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pois o texto não é redimens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líq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4200" y="6000840"/>
            <a:ext cx="8929800" cy="1930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tabcorp.com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500120" y="1571760"/>
            <a:ext cx="589284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ou preferências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exto é redimensionad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ambém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ode te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argura máxima e míni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Anteriormente trabalhamos com posicionamento CSS através do uso das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clear, position e 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objetivo de hoje é realizar algun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studos de cas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lacionados a tipos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que podem ser implementados através destas propr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4200" y="5643720"/>
            <a:ext cx="8929800" cy="228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htmldog.com/articles/elasticdesign/demo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28960" y="857160"/>
            <a:ext cx="4468680" cy="448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 variá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muda automaticamente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ara se adaptar à largura do navegador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Mudança n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úmero de colu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inclusiv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Geralmente construído vi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JavaScrip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ouco us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2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85840" y="1571760"/>
            <a:ext cx="778680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"&gt;&lt;/div&gt;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4200" y="3500280"/>
            <a:ext cx="7786800" cy="33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onteudo { float:left; width:X%;}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lateral { float: right; width: Y%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rodape {clear: both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 + Y &lt; 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07040" y="1357200"/>
            <a:ext cx="30369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3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285840" y="1571760"/>
            <a:ext cx="778680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a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b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4200" y="4071960"/>
            <a:ext cx="842976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a { float: left; width: X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b {float:right;width: Y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onteudo {margin-left:X+Z%; margin-right: Y+Z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rodape { clear:both;}                        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+Y+Z&lt;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65600" y="1285920"/>
            <a:ext cx="3578400" cy="40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2920" y="857160"/>
            <a:ext cx="75582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ZENAS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de variações são possíveis apenas alterando as propriedad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width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loa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clear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rgin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in-heigh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2920" y="857160"/>
            <a:ext cx="392904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roblem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: muitas vezes é obrigatório o uso de hacks para compatibilizar com navegadores antig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43240" y="42876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Minh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Recomend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1) Deixe o problema para seu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sign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resolv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2) Aproveite ou modifique alg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ro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3) Use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ramework CS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4) Crie seu layout em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gerador de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s pron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26200" y="0"/>
            <a:ext cx="2917800" cy="2643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csseasy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layouts.ironmyer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code-sucks.com/css%20layout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glish.com/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intensivstation.ch/en/template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643800" y="5572080"/>
            <a:ext cx="228420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ramework C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! Frameworks CS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aumentam a distância do desenvolvedo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em relação ao código CS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Não são muito flexíveis e pod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sujar o códig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Bon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vitar hack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www.blueprintcss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960.g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veloper.yahoo.com/yui/grid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licious.com/bcp/css+frame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7220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57880" y="214200"/>
            <a:ext cx="1785960" cy="1190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286760" y="4429080"/>
            <a:ext cx="1562040" cy="10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Geradore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developer.yahoo.com/yui/grids/builder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positioniseverything.net/articles/pie-maker/pagemaker_form.ph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 u="sng">
                <a:solidFill>
                  <a:srgbClr val="7799cc"/>
                </a:solidFill>
                <a:uFillTx/>
                <a:latin typeface="Arial"/>
                <a:ea typeface="MS Gothic"/>
              </a:rPr>
              <a:t>http://builder.yaml.de/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29160" y="4998960"/>
            <a:ext cx="3714840" cy="1859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000080" y="4809960"/>
            <a:ext cx="400068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é err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eitura obrigatór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formulári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belas –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vit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rágrafos –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mais compatível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Listas de definiçã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v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Desafio do layout de form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8072280" cy="2322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290600" y="3409920"/>
            <a:ext cx="685152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ormulário exemp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57280" y="1415880"/>
            <a:ext cx="495000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men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men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eze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er exemp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Geralmente se us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imagens de rollov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Quando o mouse passa sobre um elemento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 imagem é realinha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ollo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71720" y="1785960"/>
            <a:ext cx="508140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429000" y="4357800"/>
            <a:ext cx="2668680" cy="16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675E86-4CB7-48D1-9436-56DDDF03BAB0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Layout CSS Passo a pass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maujor.com/tutorial/layout-css-passo-a-passo.ph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ropriedade position do CS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tableless.com.br/propriedade-position-do-c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Flutu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http://www.pt-br.html.net/tutorials/css/lesson13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osicion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4"/>
              </a:rPr>
              <a:t>http://www.pt-br.html.net/tutorials/css/lesson14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BAB7D3-41FB-4AD4-BCF6-B2F8D917B76F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Desenvolvendo CSS na Web - SIMON COLLIS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 Web Form Design: Best Practices 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Site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lukew.com/ff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onstruindo formulários acessívei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maujor.com/tutorial/formac-a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Geral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5"/>
              </a:rPr>
              <a:t>http://www.maujor.com/tutorial/cssforms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de Contat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6"/>
              </a:rPr>
              <a:t>http://www.maujor.com/tutorial/formContato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125EE-C828-4860-A771-7F2D798C20D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ww.acordapraweb.com/formularios-totalmente-semanticos-com-html-e-css/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Mais um 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http://woork.blogspot.com/2008/06/clean-and-pure-css-form-design.htm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hecklist de usabilidade em form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alistapart.com/articles/sensiblefor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Artigo sobre alinhamento de formulários de cadastr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lukew.com/ff/entry.asp?504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8B913-4494-4081-998C-974E65F3F9EA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men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Origem da técnica de rollover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ellstyled.com/css-nopreload-rollover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SS – Guia de Bols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BB5C9-035D-4C0C-AB26-DFF7527568D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8BF9B-0430-4A6C-BC7E-6D918C5F0AD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11-04T17:28:36Z</dcterms:modified>
  <cp:revision>892</cp:revision>
  <dc:subject/>
  <dc:title>Aula 01 - Curso Técnico</dc:title>
</cp:coreProperties>
</file>